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10.gif" ContentType="image/gif"/>
  <Override PartName="/ppt/media/image6.gif" ContentType="image/gif"/>
  <Override PartName="/ppt/media/image7.jpeg" ContentType="image/jpeg"/>
  <Override PartName="/ppt/media/image8.jpeg" ContentType="image/jpeg"/>
  <Override PartName="/ppt/media/image9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AEA9-FF01-4B9A-93CC-02314F11F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B01A-D263-420E-B51B-4253BD0F7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FE05-3003-425D-B6C0-789D7408E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EF5A-D7C3-4EC4-B95F-36BF664E0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0CA52-BAED-41E5-8B95-39508FCA1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AA4BD-7360-432F-8B88-6A2BB3ED6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C7728-78D9-4816-B778-6C9D92447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2120A-9CF7-4179-83CE-97CD46D43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B49A1-BBAF-4512-8324-9638A09F3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1C525-B07C-4E38-ADD3-B48820B0F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DC55C-8C27-4D9C-AA45-37A4CECE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FA31-2881-476B-B886-7909CBB97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AFF9E-DF05-44A5-9900-AE60CB4CC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DE2C9-01B8-4FBC-B28F-8488E18D9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2C4FD-BBD6-41BC-9E38-AC9CFFFA7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10D6B-1ACD-431C-9F29-44F5F5299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1333B-4F37-4FE8-9E08-D6D340D64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6D1F-214D-48F4-AF28-469D86EA3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F14F-F45B-46F5-BB54-BB884CB09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26E7-E184-4FEB-BD6E-80E9D9836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2162-9700-45E5-89BE-470C2C0F8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1161-8164-4E15-85A3-3F374B750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8EBE-AFCF-4AAB-9984-34D86608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A783-F841-4BFF-813C-0823DA670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08426-D3A9-4B87-9BA2-3A0B2E76EAEE}" type="slidenum">
              <a:rPr b="0" lang="zh-CN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76BC9-4E23-4416-BCF6-3C75B213A486}" type="slidenum">
              <a:rPr b="0" lang="zh-CN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304920" y="1066680"/>
            <a:ext cx="8610480" cy="5410440"/>
            <a:chOff x="304920" y="1066680"/>
            <a:chExt cx="8610480" cy="5410440"/>
          </a:xfrm>
        </p:grpSpPr>
        <p:pic>
          <p:nvPicPr>
            <p:cNvPr id="167" name="" descr=""/>
            <p:cNvPicPr/>
            <p:nvPr/>
          </p:nvPicPr>
          <p:blipFill>
            <a:blip r:embed="rId1"/>
            <a:stretch/>
          </p:blipFill>
          <p:spPr>
            <a:xfrm>
              <a:off x="304920" y="1066680"/>
              <a:ext cx="8610480" cy="541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" descr=""/>
            <p:cNvPicPr/>
            <p:nvPr/>
          </p:nvPicPr>
          <p:blipFill>
            <a:blip r:embed="rId2"/>
            <a:stretch/>
          </p:blipFill>
          <p:spPr>
            <a:xfrm>
              <a:off x="7391520" y="2057400"/>
              <a:ext cx="1461960" cy="1828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9" name=""/>
          <p:cNvSpPr txBox="1"/>
          <p:nvPr/>
        </p:nvSpPr>
        <p:spPr>
          <a:xfrm>
            <a:off x="1905120" y="45720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华文中宋"/>
              </a:rPr>
              <a:t>27 </a:t>
            </a:r>
            <a:r>
              <a:rPr b="1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华文中宋"/>
              </a:rPr>
              <a:t>蒙娜丽莎之约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5029200" cy="51814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5715000" y="13716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、画像概貌（尺寸、颜色）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715000" y="251460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、面部表情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715000" y="327672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、神秘的微笑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715000" y="40384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、优雅的身姿、交叠的双手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715000" y="51814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、空旷深远的背景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" y="1219320"/>
            <a:ext cx="4648320" cy="5029200"/>
          </a:xfrm>
          <a:prstGeom prst="ellipse">
            <a:avLst/>
          </a:prstGeom>
          <a:noFill/>
          <a:ln cap="rnd" w="15840">
            <a:solidFill>
              <a:srgbClr val="ffff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828800" y="1295280"/>
            <a:ext cx="1828800" cy="1752840"/>
          </a:xfrm>
          <a:prstGeom prst="ellipse">
            <a:avLst/>
          </a:prstGeom>
          <a:noFill/>
          <a:ln cap="rnd" w="15840">
            <a:solidFill>
              <a:srgbClr val="ffff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47920" y="3809880"/>
            <a:ext cx="2666880" cy="2362320"/>
          </a:xfrm>
          <a:prstGeom prst="ellipse">
            <a:avLst/>
          </a:prstGeom>
          <a:noFill/>
          <a:ln cap="rnd" w="15840">
            <a:solidFill>
              <a:srgbClr val="ffff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09680" y="2057400"/>
            <a:ext cx="1067040" cy="838080"/>
          </a:xfrm>
          <a:prstGeom prst="ellipse">
            <a:avLst/>
          </a:prstGeom>
          <a:noFill/>
          <a:ln cap="rnd" w="15840">
            <a:solidFill>
              <a:srgbClr val="ffff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886200" y="1295280"/>
            <a:ext cx="1371600" cy="1295640"/>
          </a:xfrm>
          <a:prstGeom prst="ellipse">
            <a:avLst/>
          </a:prstGeom>
          <a:noFill/>
          <a:ln cap="rnd" w="15840">
            <a:solidFill>
              <a:srgbClr val="ffff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77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" dur="770" fill="hold"/>
                                        <p:tgtEl>
                                          <p:spTgt spid="2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" dur="77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" dur="77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77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770" fill="hold"/>
                                        <p:tgtEl>
                                          <p:spTgt spid="2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" dur="77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" dur="77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77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" dur="770" fill="hold"/>
                                        <p:tgtEl>
                                          <p:spTgt spid="2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1" dur="77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3" dur="77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77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5" dur="770" fill="hold"/>
                                        <p:tgtEl>
                                          <p:spTgt spid="2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" dur="77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" dur="77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77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" dur="770" fill="hold"/>
                                        <p:tgtEl>
                                          <p:spTgt spid="2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3" dur="77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5" dur="77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5639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Verdana"/>
                <a:ea typeface="华文中宋"/>
              </a:rPr>
              <a:t>选读课文，理解句子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971440" y="3352680"/>
            <a:ext cx="56386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Verdana"/>
              </a:rPr>
              <a:t>“</a:t>
            </a:r>
            <a:r>
              <a:rPr b="1" lang="zh-CN" sz="2800" spc="-1" strike="noStrike">
                <a:solidFill>
                  <a:srgbClr val="ff33cc"/>
                </a:solidFill>
                <a:latin typeface="Verdana"/>
              </a:rPr>
              <a:t>世界上最著名的肖像画”点明了《蒙娜丽莎》的艺术价值。能亲睹她的风采真是一种荣幸，也是一种享受，于是就有了纽约大都会博物馆前慕名而来的长龙一样的队伍，于是队伍之长远远超出了“我”的想象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0" name=""/>
          <p:cNvSpPr/>
          <p:nvPr/>
        </p:nvSpPr>
        <p:spPr>
          <a:xfrm>
            <a:off x="1066680" y="198108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华文仿宋"/>
              </a:rPr>
              <a:t>①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华文仿宋"/>
              </a:rPr>
              <a:t>《蒙娜丽莎》是世界上最杰出的肖像画，世界上有多少人能亲睹她的风采呢？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514600" y="16002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Verdana"/>
                <a:ea typeface="华文仿宋"/>
              </a:rPr>
              <a:t>②</a:t>
            </a:r>
            <a:r>
              <a:rPr b="1" lang="zh-CN" sz="3600" spc="-1" strike="noStrike">
                <a:solidFill>
                  <a:srgbClr val="3333ff"/>
                </a:solidFill>
                <a:latin typeface="Verdana"/>
                <a:ea typeface="华文仿宋"/>
              </a:rPr>
              <a:t>我随着队伍慢慢地走近她，心中涌起一种奇异的感觉。近了，更近了，蒙娜丽莎就像真人一样慢慢走近你。我终于跟她面对面了。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505320" y="4419360"/>
            <a:ext cx="54100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这段话集中体现了作者迫不及待地想见到“蒙娜丽莎”的心情。</a:t>
            </a:r>
            <a:r>
              <a:rPr b="0" lang="zh-CN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20574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12952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Verdana"/>
                <a:ea typeface="华文仿宋"/>
              </a:rPr>
              <a:t>③</a:t>
            </a:r>
            <a:r>
              <a:rPr b="1" lang="zh-CN" sz="3600" spc="-1" strike="noStrike">
                <a:solidFill>
                  <a:srgbClr val="008000"/>
                </a:solidFill>
                <a:latin typeface="Verdana"/>
                <a:ea typeface="华文仿宋"/>
              </a:rPr>
              <a:t>那微笑，有时让人觉得舒畅温柔，有时让人觉得略含哀伤，有时让人觉得十分亲切，有时又让人觉得有几分矜持。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7760" y="3276720"/>
            <a:ext cx="56386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Verdana"/>
              </a:rPr>
              <a:t>当我们凝视达</a:t>
            </a:r>
            <a:r>
              <a:rPr b="1" lang="zh-CN" sz="3200" spc="-1" strike="noStrike">
                <a:solidFill>
                  <a:srgbClr val="3366ff"/>
                </a:solidFill>
                <a:latin typeface="Verdana"/>
              </a:rPr>
              <a:t>·</a:t>
            </a:r>
            <a:r>
              <a:rPr b="1" lang="zh-CN" sz="3200" spc="-1" strike="noStrike">
                <a:solidFill>
                  <a:srgbClr val="3366ff"/>
                </a:solidFill>
                <a:latin typeface="Verdana"/>
              </a:rPr>
              <a:t>芬奇的传世名画《蒙娜丽莎》时，常常被那带有三分柔情、七分迷离的微笑所迷惑。她的微笑时隐时现，难以捉摸，引发了人们无尽的猜测。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85800" y="3352680"/>
            <a:ext cx="22096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95280" y="1600200"/>
            <a:ext cx="7467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Verdana"/>
                <a:ea typeface="华文仿宋"/>
              </a:rPr>
              <a:t>④</a:t>
            </a:r>
            <a:r>
              <a:rPr b="1" lang="zh-CN" sz="4400" spc="-1" strike="noStrike">
                <a:solidFill>
                  <a:srgbClr val="3366ff"/>
                </a:solidFill>
                <a:latin typeface="Verdana"/>
                <a:ea typeface="华文仿宋"/>
              </a:rPr>
              <a:t>她已经成了我灵魂的一部分。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743200" y="2819160"/>
            <a:ext cx="601992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Verdana"/>
              </a:rPr>
              <a:t>“</a:t>
            </a:r>
            <a:r>
              <a:rPr b="1" lang="zh-CN" sz="2800" spc="-1" strike="noStrike">
                <a:solidFill>
                  <a:srgbClr val="ff33cc"/>
                </a:solidFill>
                <a:latin typeface="Verdana"/>
              </a:rPr>
              <a:t>我”亲睹了《蒙娜丽莎》，感受到了她的魅力。她的生动，她的温柔，她的美丽，她的神秘，在“我”的心底留下了永不磨灭的印象，她已经成了我灵魂的一部分。这句话写出了蒙娜丽莎给人带来的心灵的震撼以及深刻的印象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610480" cy="541044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3809880" y="5105520"/>
            <a:ext cx="4419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Verdana"/>
                <a:ea typeface="华文中宋"/>
              </a:rPr>
              <a:t>课外拓展</a:t>
            </a:r>
            <a:endParaRPr b="0" lang="en-US" sz="5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04920" y="1219320"/>
            <a:ext cx="84582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Verdana"/>
                <a:ea typeface="华文仿宋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仿宋"/>
              </a:rPr>
              <a:t>课文下面还有一幅图，也是达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仿宋"/>
              </a:rPr>
              <a:t>·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仿宋"/>
              </a:rPr>
              <a:t>芬奇的作品，叫《最后的晚餐》，它是世界最著名的宗教画。关于这幅画还有一个非常有趣的故事呢，请同学们课后去查找有关的资料。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158640" y="190080"/>
            <a:ext cx="374652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80"/>
                </a:solidFill>
                <a:latin typeface="Verdana"/>
                <a:ea typeface="黑体"/>
              </a:rPr>
              <a:t>达</a:t>
            </a:r>
            <a:r>
              <a:rPr b="1" lang="zh-CN" sz="4800" spc="-1" strike="noStrike">
                <a:solidFill>
                  <a:srgbClr val="800080"/>
                </a:solidFill>
                <a:latin typeface="Verdana"/>
                <a:ea typeface="黑体"/>
              </a:rPr>
              <a:t>·</a:t>
            </a:r>
            <a:r>
              <a:rPr b="1" lang="zh-CN" sz="4800" spc="-1" strike="noStrike">
                <a:solidFill>
                  <a:srgbClr val="800080"/>
                </a:solidFill>
                <a:latin typeface="Verdana"/>
                <a:ea typeface="黑体"/>
              </a:rPr>
              <a:t>芬奇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819520" y="2514600"/>
            <a:ext cx="594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华文中宋"/>
                <a:ea typeface="华文中宋"/>
              </a:rPr>
              <a:t>达</a:t>
            </a:r>
            <a:r>
              <a:rPr b="0" lang="zh-CN" sz="2800" spc="-1" strike="noStrike">
                <a:solidFill>
                  <a:srgbClr val="3333ff"/>
                </a:solidFill>
                <a:latin typeface="华文中宋"/>
                <a:ea typeface="华文中宋"/>
              </a:rPr>
              <a:t>·</a:t>
            </a:r>
            <a:r>
              <a:rPr b="0" lang="zh-CN" sz="2800" spc="-1" strike="noStrike">
                <a:solidFill>
                  <a:srgbClr val="3333ff"/>
                </a:solidFill>
                <a:latin typeface="华文中宋"/>
                <a:ea typeface="华文中宋"/>
              </a:rPr>
              <a:t>芬奇</a:t>
            </a:r>
            <a:r>
              <a:rPr b="0" lang="zh-CN" sz="2800" spc="-1" strike="noStrike">
                <a:solidFill>
                  <a:srgbClr val="3333ff"/>
                </a:solidFill>
                <a:latin typeface="华文中宋"/>
                <a:ea typeface="华文中宋"/>
              </a:rPr>
              <a:t>(1452—1519)</a:t>
            </a:r>
            <a:r>
              <a:rPr b="0" lang="zh-CN" sz="2800" spc="-1" strike="noStrike">
                <a:solidFill>
                  <a:srgbClr val="3333ff"/>
                </a:solidFill>
                <a:latin typeface="华文中宋"/>
                <a:ea typeface="华文中宋"/>
              </a:rPr>
              <a:t>是意大利文艺复兴时期的一位画家，也是整个欧洲文艺复兴时期最杰出的代表人物之一。他是一位思想深邃、学识渊博、多才多艺的艺术大师、科学巨匠、文艺理论家、大哲学家、诗人、音乐家、工程师和发明家。《蒙娜丽莎》和《最后的晚餐》这两件誉满全球的作品，使达</a:t>
            </a:r>
            <a:r>
              <a:rPr b="0" lang="zh-CN" sz="2800" spc="-1" strike="noStrike">
                <a:solidFill>
                  <a:srgbClr val="3333ff"/>
                </a:solidFill>
                <a:latin typeface="华文中宋"/>
                <a:ea typeface="华文中宋"/>
              </a:rPr>
              <a:t>·</a:t>
            </a:r>
            <a:r>
              <a:rPr b="0" lang="zh-CN" sz="2800" spc="-1" strike="noStrike">
                <a:solidFill>
                  <a:srgbClr val="3333ff"/>
                </a:solidFill>
                <a:latin typeface="华文中宋"/>
                <a:ea typeface="华文中宋"/>
              </a:rPr>
              <a:t>芬奇的名字永垂青史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457200" y="1295280"/>
            <a:ext cx="2286000" cy="4981680"/>
            <a:chOff x="457200" y="1295280"/>
            <a:chExt cx="2286000" cy="4981680"/>
          </a:xfrm>
        </p:grpSpPr>
        <p:pic>
          <p:nvPicPr>
            <p:cNvPr id="173" name="" descr=""/>
            <p:cNvPicPr/>
            <p:nvPr/>
          </p:nvPicPr>
          <p:blipFill>
            <a:blip r:embed="rId1"/>
            <a:stretch/>
          </p:blipFill>
          <p:spPr>
            <a:xfrm>
              <a:off x="457200" y="1295280"/>
              <a:ext cx="2286000" cy="304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2"/>
            <a:stretch/>
          </p:blipFill>
          <p:spPr>
            <a:xfrm>
              <a:off x="457200" y="4419720"/>
              <a:ext cx="2286000" cy="185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657600" y="1143000"/>
            <a:ext cx="5105520" cy="51814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80880" y="1371600"/>
            <a:ext cx="3276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世界名画——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《蒙娜丽莎》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228600" y="4114800"/>
            <a:ext cx="3200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cc"/>
                </a:solidFill>
                <a:latin typeface="Verdana"/>
                <a:ea typeface="楷体_GB2312"/>
              </a:rPr>
              <a:t>字词正音</a:t>
            </a: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1523880" y="2057400"/>
            <a:ext cx="47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探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访  交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涉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  风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采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赴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约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352680"/>
            <a:ext cx="48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淡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雅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捉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摸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衬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托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幻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觉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71800" y="464832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深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远  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朝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一日  大洋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彼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岸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447920" y="144792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宋体"/>
              </a:rPr>
              <a:t>tàn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971800" y="144792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宋体"/>
              </a:rPr>
              <a:t>shè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191120" y="144792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宋体"/>
              </a:rPr>
              <a:t>cǎi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029200" y="14479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宋体"/>
              </a:rPr>
              <a:t>fù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191120" y="26668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宋体"/>
              </a:rPr>
              <a:t>yǎ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76920" y="2666880"/>
            <a:ext cx="121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宋体"/>
              </a:rPr>
              <a:t>zhuō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019920" y="2666880"/>
            <a:ext cx="121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宋体"/>
              </a:rPr>
              <a:t>chèn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162920" y="2666880"/>
            <a:ext cx="12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宋体"/>
              </a:rPr>
              <a:t>huàn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743200" y="4038480"/>
            <a:ext cx="121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宋体"/>
              </a:rPr>
              <a:t>shēn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343400" y="40384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宋体"/>
              </a:rPr>
              <a:t>zhāo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162920" y="40384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宋体"/>
              </a:rPr>
              <a:t>bǐ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7010280" y="1143000"/>
            <a:ext cx="15242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76720" y="1294920"/>
            <a:ext cx="3047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cc"/>
                </a:solidFill>
                <a:latin typeface="Verdana"/>
                <a:ea typeface="华文中宋"/>
              </a:rPr>
              <a:t>词语积累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1447920" cy="14479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2057400" y="22096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交涉：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114800" y="220968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互相商量，解决彼此间相关的问题。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057400" y="4191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耐人寻味：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191120" y="4191120"/>
            <a:ext cx="449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耐，禁得起；寻味，仔细体会。形容意味深长，值得细细体会。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057400" y="32004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转瞬即逝：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320040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瞬，一眨眼，转眼；逝，消失。形容一眨眼就消失了。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057400" y="56386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璀璨：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91120" y="563868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形容玉石的光泽鲜艳夺目。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2120" y="1294920"/>
            <a:ext cx="6705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Verdana"/>
                <a:ea typeface="华文中宋"/>
              </a:rPr>
              <a:t>初读课文，理解大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742840" y="3276360"/>
            <a:ext cx="60958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Verdana"/>
              </a:rPr>
              <a:t>课文先是描述了大家在纽约大都会博物馆前排队等候欣赏《蒙娜丽莎》的情景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Verdana"/>
              </a:rPr>
              <a:t>接着具体介绍《蒙娜丽莎》画像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Verdana"/>
              </a:rPr>
              <a:t>最后说《蒙娜丽莎》给人带来了心灵的震撼，给人留下了永不磨灭的印象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236232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楷体_GB2312"/>
              </a:rPr>
              <a:t>课文主要讲了什么内容？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18288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86000" y="1752120"/>
            <a:ext cx="63244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　　</a:t>
            </a:r>
            <a:r>
              <a:rPr b="1" lang="zh-CN" sz="4400" spc="-1" strike="noStrike">
                <a:solidFill>
                  <a:srgbClr val="ff0000"/>
                </a:solidFill>
                <a:latin typeface="Verdana"/>
                <a:ea typeface="华文仿宋"/>
              </a:rPr>
              <a:t>质疑：</a:t>
            </a:r>
            <a:r>
              <a:rPr b="1" lang="zh-CN" sz="4400" spc="-1" strike="noStrike">
                <a:solidFill>
                  <a:srgbClr val="3333ff"/>
                </a:solidFill>
                <a:latin typeface="Verdana"/>
                <a:ea typeface="华文仿宋"/>
              </a:rPr>
              <a:t>课文以介绍《蒙娜丽莎》为写作目的，为什么还要写大家排队等候欣赏画像的情景呢？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3581280" y="4572000"/>
            <a:ext cx="4419720" cy="1523880"/>
            <a:chOff x="3581280" y="4572000"/>
            <a:chExt cx="4419720" cy="1523880"/>
          </a:xfrm>
        </p:grpSpPr>
        <p:sp>
          <p:nvSpPr>
            <p:cNvPr id="209" name=""/>
            <p:cNvSpPr txBox="1"/>
            <p:nvPr/>
          </p:nvSpPr>
          <p:spPr>
            <a:xfrm>
              <a:off x="6705720" y="4572000"/>
              <a:ext cx="1295280" cy="1371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？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  <p:pic>
          <p:nvPicPr>
            <p:cNvPr id="210" name="" descr=""/>
            <p:cNvPicPr/>
            <p:nvPr/>
          </p:nvPicPr>
          <p:blipFill>
            <a:blip r:embed="rId1"/>
            <a:stretch/>
          </p:blipFill>
          <p:spPr>
            <a:xfrm>
              <a:off x="3581280" y="4572000"/>
              <a:ext cx="2590920" cy="1523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-152640" y="1828800"/>
            <a:ext cx="6629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华文中宋"/>
                <a:ea typeface="华文中宋"/>
              </a:rPr>
              <a:t>朗读１</a:t>
            </a:r>
            <a:r>
              <a:rPr b="1" lang="zh-CN" sz="4400" spc="-1" strike="noStrike">
                <a:solidFill>
                  <a:srgbClr val="ff33cc"/>
                </a:solidFill>
                <a:latin typeface="华文中宋"/>
                <a:ea typeface="华文中宋"/>
              </a:rPr>
              <a:t>-</a:t>
            </a:r>
            <a:r>
              <a:rPr b="1" lang="zh-CN" sz="4400" spc="-1" strike="noStrike">
                <a:solidFill>
                  <a:srgbClr val="ff33cc"/>
                </a:solidFill>
                <a:latin typeface="华文中宋"/>
                <a:ea typeface="华文中宋"/>
              </a:rPr>
              <a:t>４自然段，</a:t>
            </a:r>
            <a:br>
              <a:rPr sz="4400"/>
            </a:br>
            <a:r>
              <a:rPr b="1" lang="zh-CN" sz="4400" spc="-1" strike="noStrike">
                <a:solidFill>
                  <a:srgbClr val="ff33cc"/>
                </a:solidFill>
                <a:latin typeface="华文中宋"/>
                <a:ea typeface="华文中宋"/>
              </a:rPr>
              <a:t>细心体会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3160" y="3733920"/>
            <a:ext cx="7559640" cy="29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8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Verdana"/>
                <a:ea typeface="华文仿宋"/>
              </a:rPr>
              <a:t>文章通过人们的等待的情景来衬托《蒙娜丽莎》的巨大魅力。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6553080" y="129528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80720" y="2362320"/>
            <a:ext cx="67057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Verdana"/>
                <a:ea typeface="黑体"/>
              </a:rPr>
              <a:t>朗读</a:t>
            </a:r>
            <a:r>
              <a:rPr b="1" lang="zh-CN" sz="4400" spc="-1" strike="noStrike">
                <a:solidFill>
                  <a:srgbClr val="3333ff"/>
                </a:solidFill>
                <a:latin typeface="Verdana"/>
                <a:ea typeface="黑体"/>
              </a:rPr>
              <a:t>5-7</a:t>
            </a:r>
            <a:r>
              <a:rPr b="1" lang="zh-CN" sz="4400" spc="-1" strike="noStrike">
                <a:solidFill>
                  <a:srgbClr val="3333ff"/>
                </a:solidFill>
                <a:latin typeface="Verdana"/>
                <a:ea typeface="黑体"/>
              </a:rPr>
              <a:t>自然段，</a:t>
            </a:r>
            <a:br>
              <a:rPr sz="4400"/>
            </a:br>
            <a:r>
              <a:rPr b="1" lang="zh-CN" sz="4400" spc="-1" strike="noStrike">
                <a:solidFill>
                  <a:srgbClr val="3333ff"/>
                </a:solidFill>
                <a:latin typeface="Verdana"/>
                <a:ea typeface="黑体"/>
              </a:rPr>
              <a:t>感受名画的魅力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3200400" y="426708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课文是怎样介绍《蒙娜丽莎》这幅名画的呢？请指出作者介绍的顺序。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800100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3-12-09T01:12:12Z</dcterms:modified>
  <cp:revision>47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